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98D-C873-4011-AD38-5353F5E5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D69-BBA9-44F0-8C86-843975C3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1FF-DCFC-4C3E-A7F7-F4854E00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1A0-7B7C-4D19-8401-E4973B22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3249-3ED4-4732-9907-3B322CB4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41A7-0280-4208-ACB6-B4930378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FA86-19B7-4BCA-8830-59EEF8EC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3AAE-A989-4355-9680-9A9FD437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059D-2A54-4023-8B6C-7A63F5CF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67AA-3248-407B-AEE5-423D30BF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428C-E814-4E83-B90B-78090A7A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EFD-3E8D-4B29-8C90-0C422EB9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1A1B-7286-45F7-9C98-D819ADB3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31F0-3DF3-4173-8DA1-6E912946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4A5B-F805-45F9-8A79-0BBFE0F5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9C6B-E757-4C2C-A36E-FD54DA82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8D3D-6132-44CC-9FEC-67E85AB4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B2B-4D1E-4918-B5A0-48B4D40D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B35-CF06-4547-A266-64561DD9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7F0-BAD2-4FAF-BAAD-53C0B9D1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ECE-9033-4E45-81A1-AEA77A90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E6C-036C-450E-BC64-A238CBCC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13E-B0D4-44C3-A8F5-EEEDFCAE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66B-2666-4236-B444-97E98D3F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22D9-C4AA-42E1-A1E3-842228B95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44792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7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7F4F-EC22-48F8-BE29-5F326E9E3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46479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 22nd 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6640" y="1676520"/>
            <a:ext cx="7734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unt Albert Grammar Scho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ew Staff Ori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16002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h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and introduction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e Burden, Head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unt Albert Gramm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of MAGS - Dale Burden, Associate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orts and Cul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 at MAGS - Kerry Baker, Director of 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s at MAGS - Milicia Zjajic-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rama and 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tag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usic and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b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apa H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anet, Library, I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ervices - Library, ICT , School website and our Intra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lise Goddard, Director of Information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ily Rout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are unsure, ASK…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y at MAGS - Yevette Williams, Director of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MAR database and attendance - Chris Metcalfe, Director of Junior B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iplinary procedures - Director of Girls, Te Aroha Kee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trips  - Dale Bu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relief - T.B.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15320" y="379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4479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658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visionally registered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cher program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to 1st and 2nd year New Zealand trained teachers AND experienced teachers new to New Zeal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meeting schedule run by Matt Bertram (Director of Boys)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ndout attached with Term One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4479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of the ye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dates, events and meetings including the Powhiri - refer ‘Beginning of Year Information’ book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4479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endi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ur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lace in the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s on tim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with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447920" cy="12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staff orientation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02:39:40Z</dcterms:created>
  <dc:creator>ICT</dc:creator>
  <dc:description/>
  <dc:language>en-US</dc:language>
  <cp:lastModifiedBy>John Pipe</cp:lastModifiedBy>
  <dcterms:modified xsi:type="dcterms:W3CDTF">2007-12-19T03:12:23Z</dcterms:modified>
  <cp:revision>15</cp:revision>
  <dc:subject/>
  <dc:title>             </dc:title>
</cp:coreProperties>
</file>